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21A-C1F3-49EA-9238-223D9DCF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D59-916D-4BDD-AE4E-C4976723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7B4-FD17-4A51-A418-0B31B40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1D0-7ED2-4AE9-963F-211314C3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72B-3B03-4B67-B1FB-CEBB32A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65F-C583-4AF9-A4C1-CA6D487D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E57-DB1B-46CE-B1AD-12B3C6B0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B37-383E-4731-89CB-1684A6C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58A-4B90-4D58-8E3A-54FAFA58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802-5DBC-4956-9418-10DD51B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367-1166-4D36-B7F1-57C7A7D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20D-4D4C-43CA-B5D7-BAE08AE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1A5D-055D-4C16-973B-02BC22F17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iplina: Tópicos Especiais de Linguística Aplicada: A Formação do Formador e do professor de Língua estrangei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ente: Prof.Dra. Maria Helena Vieira Abrah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ente: Selma M. Abdalla Dias Barb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e Práticas diferent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Training: treinamento de             habilidades, como por exemplo, escrever legivelmente no quadro ou saber falar para uma sala cheia de crianças e que eles possam ouvir tudo que ele dis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ducation: Conhecimento, ou seja, saber sobre o sistema de artigos em Inglê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ndimento (understanding): Entender porque um adolescente pode achar difícil em se desempenhar da melhor forma possível numa aula de inglê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ajuda a usar nossas habilidades e conhecimentos apropriad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 ajuda a sentir que nós sabemos o que estamos fazendo e por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re as três no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acordo com os autores na prática todas as três noções são relevantes todo o tempo e em todo estágio na carreira  do professor, mas deve haver um equilíbrio entre as três no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creditam que a distinção dessas fases é muito importante para a elaboração de programas de formção de professores e, consequentemente, para a elaboração satisfatória de programas de pesqu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saber distinguir em que fase o professor es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qual das três noções ele está mais precisando naquele momento específ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nte distinguir:  Preservice(nova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vice (exper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sar e/ou mapear suas competênc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eando um Programa de Pesqui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utores afirmam que seria um prejuízo para programas de pesquisas se estes levassem em conta somente o contexto de sala de aula para aprendizagem de professores (como aludem Freeman e Johnson no art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programas deveriam refletir sobre as diferentes formas de aprendizagem de acordo com os diferentes estágios dos profes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ram a necessidade de pesquisas longitudinais, que contemplem tanto o contexto social diferenciado como também, as maneiras como os novatos (preservice) e experientes (inservice) aprendem a ensinar lín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e)elaborando Programas de Formação de Professores de Língu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nde dificuldade que os autores encontraram na (re)elaboração de programas foi a escassez de pesquisas direcionadas diretamente à aprendizagem de profess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autores acreditam que pelo me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tipos de programas de educação de professores L2 poderão ser descr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7640" y="3141720"/>
            <a:ext cx="3672000" cy="19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ade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l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200400"/>
            <a:ext cx="3529080" cy="18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n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all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3500280"/>
            <a:ext cx="987480" cy="1295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cademic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enta a crença de que professores novatos/inexperientes podem se tornar em eficientes professores de L2 simplesmente frequentando cursos que ensinam como lecionar, aprender, a estrutura da língua e a desenvolver seus conhecimentos sobre o que é ensinar e aprender uma lín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man e Johnson lutam contra esta vertente ao afirmarem que “os professores não são vasos vazios esperando para serem cheios de teorias e habilidades pedagógica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Tarone e Alwright os maiores prejudicados são os “beginning teacher learners”    pois eles acham esses conteúdos descontextualizados, e acabam por acreditarem que o único lugar para aprender a ensinar é na sala de a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oninterface Fall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enta a crença de que os professores de língua só podem adquirir a habilidade de lecionar/ensinar línguas no contexto de sala de aula de línguas, ou seja, aprende-se fazendo (dando au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à teoria de Krashen (1982), uma aprendizagem consciente não tem muita relevância no processo de aquisição de uma L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autores sugerem um terceiro tipo de programa :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editam que aprendizes/professores de L2 precisam de uma aprendizagem consciente antes de adentrarem a sala de au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rofessores aprendizes experientes preferem se situarem na posição de interface, pois acreditam que a aprendizagem consciente influencia consideravelmente na performance do professor de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la 5:Conhecimentos Pedagógicos e Fundamentação Teórica na Formação de Profess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nguage Teacher Learning and Student Second Language Learning: Shaping the Knowledg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Tarone and Allwright,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 dos autores a Freeman e John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m o risco de se situarem na Noninterface fallacy devido a seguinte f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e locus of teacher learning lay in on-the-job initiation into the practices of teaching and not in the processes of professional teacher education.”(p.3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nsiderando a Complexidade da Classe dos Professores/Aprend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man e Johnson- sugerem a construção de pontes que sustentem uma maior interação entre teoria e prát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4495680"/>
            <a:ext cx="182880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648320"/>
            <a:ext cx="205740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12372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one e All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cam na centralidade do processo a heterogeinidade de professores/aprend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ma os três tipos de conhecimento: habilidades, conhecimento e compreensão/entendimento, em diferentes níveis para os diferentes  perfis de professores/aprend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-se encontrar resistência de mudança em Professores mais experientes, por isso eles têm que serem expostos a uma abordagem integrativa para convencê-los que precisam desenvolver suas estruturas de compreens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escentam ainda a diversidade individual do aprendiz (idade, sexo, inteligência, aptidão, motivação 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 de Tarone e All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criticam Freeman e Johnson por excluirem o aprendiz do esquema de reconceptual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rmam que o verb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sin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é um verbo intran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ção de professores de língua está primeiramente muito mais preocupado com os professores como aprendizes de   como ensinar, do que com alunos como aprendizes de língua.”(Freeman e Johns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mework for the knowledge base of language teacher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84120" y="1600200"/>
            <a:ext cx="657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e to Tarone and Allwrigh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e Freeman e Johns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hat I meant at all.That is not it, at all.” (T. S. Eliot’s J. Alfred Prufr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nico ponto em que eles concordam com Tarone e Allwright é que poucas pesquisas têm sido realizadas com pessoas que estão aprendendo a lecionar L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a primeira acusação: os programas não levam em consideração o que já se sabe sobre formação 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rofess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té concordam que é uma afirmação baseada em suas experiências, e não em resultados de pesquisas e,  que portanto, acaba por se tonar um julg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argumentam que essa crença pode ser sustentada por vários estudos internacionais (Wilson, Floden,&amp; Ferrini-Mundy, 2001), apesar de não serem específicos às suas afirmações, mas os leva a acreditar que os programas precisam mud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gunda acusação: Não levam em consideração o contexto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acham a acusação mais interessante de discu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em que foram mau interpretados/l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ssa visão é um pouquinho diferente da d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s de LTE como são atualmente elaborados, geralmente não contemplam as escolas e o processo escolar como um contexto soc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ític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aprendizagem de profess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s ampliam os sentidos socia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LS              aspec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ocult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ING                como o proc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cio-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981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cionar não é um verbo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ntransi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not what I meant at all. That is  not it,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les não levarem em consideração as pesquisas de SLA, que pelo contrário eles dão muito valor, pois são elas que ajudam a informar os trabalhos dos professores de língu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s afirmam que tudo é uma questão de ênfase no objeto a ser estu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a Resenha crítica ao artigo de Freeman and Johnson (1998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go: Reconceptualizing the Knowledge-Base of Teacher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se artigo eles comentam a necessidade de reconceituar  o conhecimento-base do professor de línguas. Essa necessidade recai sobre dois princípios que eles apontam contra a prática a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ard Linking Teacher Knowledge and Stu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reeman and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texto tenta responder como o trabalho chamado TEACHING, as ações do professor, e o trabalho chamado LEARNING, as ações, no mais amplo sentido, dos alunos, se cone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o ensino/aprendizag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                         AL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hecimento                          apr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ções)                                         (açõ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posto da E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5909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276720"/>
            <a:ext cx="16765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800600" y="32767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nsar e Reflet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971800"/>
            <a:ext cx="236232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o al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não aprend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são cap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az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124080"/>
            <a:ext cx="236196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que o profes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3429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fere-se ao que o indivíduo faz, neste caso, na sala de aula de lín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TIV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ão é a soma de ações dos professores e alunos. É o todo, que é melhor que as partes indivi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STRU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É alguma coisa usada para fazer um trabalho em part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erentes formas de uso do retroprojetor, e cada uma sugeri uma atividade difer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geralmente uso o retro para apresentar informações aos alun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eu uso o retro, ele ajuda meus alunos a prestarem atenção no que é importante na liçã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frequentemente coloco os exercícios de casa dos alunos no retro. Então eles podem ver seus err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 uso o retro para colher informações de meus alunos. Eu faço uma pergunta e logo escrevo no retro o que eles fala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743200"/>
            <a:ext cx="3886200" cy="2971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590920"/>
            <a:ext cx="3809880" cy="2895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2971800"/>
            <a:ext cx="1447920" cy="228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 ní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29320" y="384660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ções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o ENSINAR e APRENDER  se relacio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mente os autores apresentam 3 for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USAL/ CON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2.   CAUSALIDADE 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.   RELAÇÃO  DE INFLU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/CONDI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nsinar           conduz             aprendiz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 al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IDADE    R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foco deixa de ser o que o professor faz e passa a ser o que passa na mente dele. E esse raciocínio pode ser moldado  ou causar seu desenvolvimento através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novas idéias e prática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reinamento        conduz              b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Do professor                                  en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ÇÃO DE INFLU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i dois elementos ausentes nas demais estruturas: Atividade e conceptual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ndizagem    influencia     maneira c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ssional                                   ensi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ia          aprendizagem dos alu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3809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05120" y="4114800"/>
            <a:ext cx="4572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5257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dois Aspectos por Freeman and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dores de programas de formação de professores de língua fracassam em não levarem em consideração o que já sabemos em geral sobre aprendizagem do professor/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formação de professores também fracassam ao não lidarem com o contexto social da escola e do processo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hoo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              classroom        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               activity            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S      +       ACTIONS   =     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2057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quiring Knowledge of Discourse Convention in Teacher edu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Hedgecock (200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sos de educação de professores tradicionais: ler a literatura da área, fazer/completar projetos e acumular experiências pr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ção de professores orientada por esquemas reflexivos (como proposta):focar principalmente em habilidades práticas, enfatizar o conhecimento pedagógico e conscientização muito mais que conhecimento de maté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ação de professores baseado na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ocioliterate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bordag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ciolite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educação de professores engaja muito mais os participantes em exames/reflexão, entendimentos, adoções, e até mesmo na transformação de discurso  dos professores de línguas e práticas textu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r com Consciênci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ia e conhecimento formal, os quais Bereiter e Scardamalia (1993) caracterizou como “’representada publicamente” e “negociável”, capacita os inexperientes a teorizar seus  conhecimentos implícitos, o conhecimento prático até que isso se torne “Conhecimento prático teorizad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umas estratégias para a leitura crí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r da leitura suas próprias perguntas sobre aprendizagem de línguas na 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tar uma postura crítica quando estiver lendo pesquisas da á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ar T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ar o que não está escr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ela Scar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spection and Retrospection as Windows on Teacher Knowledge, Values, and Ethical Dis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o de caso com uma professora de Francês como segunda língua, fazendo seus relatos introspectivos no momento de correção de exercícios de uma aluna de 11 anos (Ros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tivo do texto de Tarone e Allwr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sar mais detalhadamente essas duas acusações de Freeman e Johnson, e propor o que eles acham mais apropriado para a elaboração desses currículos de formação de professores como também para programas de pesqui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autores afirmam que ao fazerem isso, que eles correriam o risco de parecer que queiram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na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texto de Freeman e John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one e Allwright criticam que Freeman e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distingu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  Vs 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anguage              Secon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 Learning                Teac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                                        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m que Freeman e Johns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valorizam ou não levam muito a sério as pesquisa SLA (Second Language Acquisi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por outro lado, eles tiveram uma importante contribuição, ao chamarem a atenção para a grande quantidade de pesquisas relizadas sobre aprendizagem de professores em g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 contrário de Freeman e Johnson, Tarone e Allwr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em precisamente como essas pesquisas de SLA e de aprendizagem de professores em geral sustentam e dão suporte na aprendizagem de professores de L2 e na formação de professores de L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s acreditam que professores de diferentes matérias/áreas aprendem coisas diferentes e de modo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as de Formação de Professores L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i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vic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86200" y="21333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3657600"/>
            <a:ext cx="12952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6:04:51Z</dcterms:created>
  <dc:creator>SELMA</dc:creator>
  <dc:description/>
  <dc:language>en-US</dc:language>
  <cp:lastModifiedBy>Polo</cp:lastModifiedBy>
  <dcterms:modified xsi:type="dcterms:W3CDTF">2010-05-04T19:53:3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